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laser.wav" ContentType="audio/x-wav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BCA-2E0B-4296-834D-4B000969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C0A-0909-4F0D-80C8-8A76F18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30C-F2B3-4505-A404-5C7D8575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350-6AD2-404C-B39D-ED38D654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D09-004C-46CE-A1D1-5952E62D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4A4-C1B0-4A15-A810-B6FB0A14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EED-5BC1-4E9D-B88B-D04F727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AEE-19D0-414C-826B-64394D67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569-D333-4FAF-BF17-EC516CDC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0F6-0131-44BC-A642-7BE3663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A09-6DA2-4372-8BAA-84CDE861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DAC-3705-4E23-8A64-98860DF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AE5-FDCD-49E4-AACD-D29928217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32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oked at several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 +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OH 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experiments reveal trends. The activity series ranks the relative reactivity of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us to predict if certain chemicals will undergo single displacement reactions when mixed: metals near the top are most reactive and will displacing metals near the bot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ich of these will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Na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Zn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8000"/>
              </a:lnSpc>
              <a:buNone/>
              <a:tabLst>
                <a:tab algn="l" pos="0"/>
                <a:tab algn="l" pos="407880"/>
                <a:tab algn="l" pos="102060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Cu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002120" y="4800600"/>
            <a:ext cx="3313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+ 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5638680" y="2971800"/>
            <a:ext cx="2667240" cy="2666880"/>
            <a:chOff x="5638680" y="2971800"/>
            <a:chExt cx="2667240" cy="2666880"/>
          </a:xfrm>
        </p:grpSpPr>
        <p:sp>
          <p:nvSpPr>
            <p:cNvPr id="80" name="Rectangle 5"/>
            <p:cNvSpPr/>
            <p:nvPr/>
          </p:nvSpPr>
          <p:spPr>
            <a:xfrm>
              <a:off x="5638680" y="424800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Fe is above C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6"/>
            <p:cNvSpPr/>
            <p:nvPr/>
          </p:nvSpPr>
          <p:spPr>
            <a:xfrm>
              <a:off x="7620120" y="2971800"/>
              <a:ext cx="685800" cy="2666880"/>
            </a:xfrm>
            <a:custGeom>
              <a:avLst/>
              <a:gdLst>
                <a:gd name="textAreaLeft" fmla="*/ 91800 w 685800"/>
                <a:gd name="textAreaRight" fmla="*/ 594000 w 685800"/>
                <a:gd name="textAreaTop" fmla="*/ 532440 h 2666880"/>
                <a:gd name="textAreaBottom" fmla="*/ 20041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627" stAng="-5400000" swAng="-5400000"/>
                  <a:lnTo>
                    <a:pt x="0" y="11919"/>
                  </a:lnTo>
                  <a:arcTo wR="21600" hR="8627" stAng="10800000" swAng="-2545407"/>
                  <a:lnTo>
                    <a:pt x="12950" y="20878"/>
                  </a:lnTo>
                  <a:lnTo>
                    <a:pt x="21600" y="18900"/>
                  </a:lnTo>
                  <a:lnTo>
                    <a:pt x="12950" y="15478"/>
                  </a:lnTo>
                  <a:lnTo>
                    <a:pt x="12950" y="16532"/>
                  </a:lnTo>
                  <a:arcTo wR="21600" hR="8627" stAng="8254593" swAng="2279070"/>
                  <a:lnTo>
                    <a:pt x="397" y="10273"/>
                  </a:lnTo>
                  <a:arcTo wR="21600" hR="8627" stAng="-10533663" swAng="5133663"/>
                  <a:close/>
                </a:path>
                <a:path fill="darkenLess" w="21600" h="21600">
                  <a:moveTo>
                    <a:pt x="21600" y="0"/>
                  </a:moveTo>
                  <a:arcTo wR="21600" hR="8627" stAng="-5400000" swAng="-5400000"/>
                  <a:lnTo>
                    <a:pt x="0" y="8627"/>
                  </a:lnTo>
                  <a:arcTo wR="21600" hR="8627" stAng="10800000" swAng="-266337"/>
                  <a:lnTo>
                    <a:pt x="397" y="10273"/>
                  </a:lnTo>
                  <a:arcTo wR="21600" hR="8627" stAng="-10533663" swAng="5133663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7"/>
          <p:cNvSpPr/>
          <p:nvPr/>
        </p:nvSpPr>
        <p:spPr>
          <a:xfrm>
            <a:off x="4001760" y="53038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(no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8"/>
          <p:cNvGrpSpPr/>
          <p:nvPr/>
        </p:nvGrpSpPr>
        <p:grpSpPr>
          <a:xfrm>
            <a:off x="5486400" y="304920"/>
            <a:ext cx="2819520" cy="3504960"/>
            <a:chOff x="5486400" y="304920"/>
            <a:chExt cx="2819520" cy="3504960"/>
          </a:xfrm>
        </p:grpSpPr>
        <p:sp>
          <p:nvSpPr>
            <p:cNvPr id="84" name="Rectangle 9"/>
            <p:cNvSpPr/>
            <p:nvPr/>
          </p:nvSpPr>
          <p:spPr>
            <a:xfrm>
              <a:off x="5486400" y="112392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, Ni is below 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0"/>
            <p:cNvSpPr/>
            <p:nvPr/>
          </p:nvSpPr>
          <p:spPr>
            <a:xfrm flipV="1">
              <a:off x="7391520" y="304560"/>
              <a:ext cx="914400" cy="350496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722880 h 3504960"/>
                <a:gd name="textAreaBottom" fmla="*/ 261180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906" stAng="-5400000" swAng="-5400000"/>
                  <a:lnTo>
                    <a:pt x="0" y="11641"/>
                  </a:lnTo>
                  <a:arcTo wR="21600" hR="8906" stAng="10800000" swAng="-2599868"/>
                  <a:lnTo>
                    <a:pt x="12950" y="20855"/>
                  </a:lnTo>
                  <a:lnTo>
                    <a:pt x="21600" y="19179"/>
                  </a:lnTo>
                  <a:lnTo>
                    <a:pt x="12950" y="16012"/>
                  </a:lnTo>
                  <a:lnTo>
                    <a:pt x="12950" y="17066"/>
                  </a:lnTo>
                  <a:arcTo wR="21600" hR="8906" stAng="8200132" swAng="2379912"/>
                  <a:lnTo>
                    <a:pt x="256" y="10273"/>
                  </a:lnTo>
                  <a:arcTo wR="21600" hR="8906" stAng="-10580044" swAng="5180044"/>
                  <a:close/>
                </a:path>
                <a:path fill="darkenLess" w="21600" h="21600">
                  <a:moveTo>
                    <a:pt x="21600" y="0"/>
                  </a:moveTo>
                  <a:arcTo wR="21600" hR="8906" stAng="-5400000" swAng="-5400000"/>
                  <a:lnTo>
                    <a:pt x="0" y="8906"/>
                  </a:lnTo>
                  <a:arcTo wR="21600" hR="8906" stAng="10800000" swAng="-219956"/>
                  <a:lnTo>
                    <a:pt x="256" y="10273"/>
                  </a:lnTo>
                  <a:arcTo wR="21600" hR="8906" stAng="-10580044" swAng="5180044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11"/>
          <p:cNvSpPr/>
          <p:nvPr/>
        </p:nvSpPr>
        <p:spPr>
          <a:xfrm>
            <a:off x="4021920" y="5761080"/>
            <a:ext cx="266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 +   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012200" y="6211800"/>
            <a:ext cx="226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+   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5181480" y="2133720"/>
            <a:ext cx="3124440" cy="3504960"/>
            <a:chOff x="5181480" y="2133720"/>
            <a:chExt cx="3124440" cy="3504960"/>
          </a:xfrm>
        </p:grpSpPr>
        <p:sp>
          <p:nvSpPr>
            <p:cNvPr id="89" name="Rectangle 14"/>
            <p:cNvSpPr/>
            <p:nvPr/>
          </p:nvSpPr>
          <p:spPr>
            <a:xfrm>
              <a:off x="5181480" y="280044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Al is above C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5"/>
            <p:cNvSpPr/>
            <p:nvPr/>
          </p:nvSpPr>
          <p:spPr>
            <a:xfrm>
              <a:off x="7315200" y="2133720"/>
              <a:ext cx="990720" cy="350496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733680 h 3504960"/>
                <a:gd name="textAreaBottom" fmla="*/ 2645640 h 350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45" stAng="-5400000" swAng="-5400000"/>
                  <a:lnTo>
                    <a:pt x="0" y="11782"/>
                  </a:lnTo>
                  <a:arcTo wR="21600" hR="9045" stAng="10800000" swAng="-2872444"/>
                  <a:lnTo>
                    <a:pt x="13950" y="21014"/>
                  </a:lnTo>
                  <a:lnTo>
                    <a:pt x="21600" y="19459"/>
                  </a:lnTo>
                  <a:lnTo>
                    <a:pt x="13950" y="16731"/>
                  </a:lnTo>
                  <a:lnTo>
                    <a:pt x="13950" y="17504"/>
                  </a:lnTo>
                  <a:arcTo wR="21600" hR="9045" stAng="7927556" swAng="2652405"/>
                  <a:lnTo>
                    <a:pt x="249" y="10414"/>
                  </a:lnTo>
                  <a:arcTo wR="21600" hR="9045" stAng="-10579961" swAng="5179961"/>
                  <a:close/>
                </a:path>
                <a:path fill="darkenLess" w="21600" h="21600">
                  <a:moveTo>
                    <a:pt x="21600" y="0"/>
                  </a:moveTo>
                  <a:arcTo wR="21600" hR="9045" stAng="-5400000" swAng="-5400000"/>
                  <a:lnTo>
                    <a:pt x="0" y="9045"/>
                  </a:lnTo>
                  <a:arcTo wR="21600" hR="9045" stAng="10800000" swAng="-220039"/>
                  <a:lnTo>
                    <a:pt x="249" y="10414"/>
                  </a:lnTo>
                  <a:arcTo wR="21600" hR="9045" stAng="-10579961" swAng="5179961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6"/>
          <p:cNvSpPr/>
          <p:nvPr/>
        </p:nvSpPr>
        <p:spPr>
          <a:xfrm>
            <a:off x="838080" y="4572000"/>
            <a:ext cx="1143000" cy="30492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7"/>
          <p:cNvSpPr/>
          <p:nvPr/>
        </p:nvSpPr>
        <p:spPr>
          <a:xfrm>
            <a:off x="838080" y="5562720"/>
            <a:ext cx="1143000" cy="3045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Group 54"/>
          <p:cNvGrpSpPr/>
          <p:nvPr/>
        </p:nvGrpSpPr>
        <p:grpSpPr>
          <a:xfrm>
            <a:off x="5257800" y="914400"/>
            <a:ext cx="3048120" cy="2209680"/>
            <a:chOff x="5257800" y="914400"/>
            <a:chExt cx="3048120" cy="2209680"/>
          </a:xfrm>
        </p:grpSpPr>
        <p:sp>
          <p:nvSpPr>
            <p:cNvPr id="95" name="Rectangle 55"/>
            <p:cNvSpPr/>
            <p:nvPr/>
          </p:nvSpPr>
          <p:spPr>
            <a:xfrm>
              <a:off x="5257800" y="1447920"/>
              <a:ext cx="2057400" cy="106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, Li is above Z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6"/>
            <p:cNvSpPr/>
            <p:nvPr/>
          </p:nvSpPr>
          <p:spPr>
            <a:xfrm>
              <a:off x="7391520" y="914400"/>
              <a:ext cx="914400" cy="22096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17600 h 2209680"/>
                <a:gd name="textAreaBottom" fmla="*/ 16606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65" stAng="-5400000" swAng="-5400000"/>
                  <a:lnTo>
                    <a:pt x="0" y="12150"/>
                  </a:lnTo>
                  <a:arcTo wR="21600" hR="8165" stAng="10800000" swAng="-2957290"/>
                  <a:lnTo>
                    <a:pt x="14919" y="21200"/>
                  </a:lnTo>
                  <a:lnTo>
                    <a:pt x="21600" y="18322"/>
                  </a:lnTo>
                  <a:lnTo>
                    <a:pt x="14919" y="14643"/>
                  </a:lnTo>
                  <a:lnTo>
                    <a:pt x="14919" y="15929"/>
                  </a:lnTo>
                  <a:arcTo wR="21600" hR="8165" stAng="7842710" swAng="2631267"/>
                  <a:lnTo>
                    <a:pt x="653" y="10157"/>
                  </a:lnTo>
                  <a:arcTo wR="21600" hR="8165" stAng="-10473977" swAng="5073977"/>
                  <a:close/>
                </a:path>
                <a:path fill="darkenLess" w="21600" h="21600">
                  <a:moveTo>
                    <a:pt x="21600" y="0"/>
                  </a:moveTo>
                  <a:arcTo wR="21600" hR="8165" stAng="-5400000" swAng="-5400000"/>
                  <a:lnTo>
                    <a:pt x="0" y="8165"/>
                  </a:lnTo>
                  <a:arcTo wR="21600" hR="8165" stAng="10800000" swAng="-326023"/>
                  <a:lnTo>
                    <a:pt x="653" y="10157"/>
                  </a:lnTo>
                  <a:arcTo wR="21600" hR="8165" stAng="-10473977" swAng="5073977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Freeform 57"/>
          <p:cNvSpPr/>
          <p:nvPr/>
        </p:nvSpPr>
        <p:spPr>
          <a:xfrm>
            <a:off x="838080" y="6019920"/>
            <a:ext cx="1143000" cy="304560"/>
          </a:xfrm>
          <a:custGeom>
            <a:avLst/>
            <a:gdLst/>
            <a:ahLst/>
            <a:rect l="l" t="t" r="r" b="b"/>
            <a:pathLst>
              <a:path w="816" h="336">
                <a:moveTo>
                  <a:pt x="0" y="336"/>
                </a:moveTo>
                <a:cubicBezTo>
                  <a:pt x="25" y="300"/>
                  <a:pt x="86" y="175"/>
                  <a:pt x="149" y="120"/>
                </a:cubicBezTo>
                <a:cubicBezTo>
                  <a:pt x="212" y="65"/>
                  <a:pt x="302" y="10"/>
                  <a:pt x="379" y="5"/>
                </a:cubicBezTo>
                <a:cubicBezTo>
                  <a:pt x="456" y="0"/>
                  <a:pt x="537" y="36"/>
                  <a:pt x="610" y="91"/>
                </a:cubicBezTo>
                <a:cubicBezTo>
                  <a:pt x="683" y="146"/>
                  <a:pt x="773" y="285"/>
                  <a:pt x="816" y="336"/>
                </a:cubicBezTo>
              </a:path>
            </a:pathLst>
          </a:custGeom>
          <a:noFill/>
          <a:ln w="11448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0880" y="76320"/>
            <a:ext cx="6621480" cy="30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 is the only nonmetal listed.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ay be displaced from acids or can be given off when a metal reacts with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(producing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metal hydroxide).  The reaction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 depends on metal reactivity &amp; water temp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: will Mg react with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05920" y="46080"/>
          <a:ext cx="761760" cy="6659640"/>
        </p:xfrm>
        <a:graphic>
          <a:graphicData uri="http://schemas.openxmlformats.org/drawingml/2006/table">
            <a:tbl>
              <a:tblPr/>
              <a:tblGrid>
                <a:gridCol w="761760"/>
              </a:tblGrid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4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7b3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5edb5"/>
                    </a:solidFill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39"/>
          <p:cNvSpPr/>
          <p:nvPr/>
        </p:nvSpPr>
        <p:spPr>
          <a:xfrm>
            <a:off x="6781680" y="352440"/>
            <a:ext cx="990720" cy="1136160"/>
          </a:xfrm>
          <a:prstGeom prst="rect">
            <a:avLst/>
          </a:prstGeom>
          <a:solidFill>
            <a:srgbClr val="67b3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6195240" y="1828800"/>
            <a:ext cx="1599840" cy="64872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6544440" y="2706840"/>
            <a:ext cx="128700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2"/>
          <p:cNvSpPr/>
          <p:nvPr/>
        </p:nvSpPr>
        <p:spPr>
          <a:xfrm>
            <a:off x="6905160" y="3659040"/>
            <a:ext cx="925920" cy="581400"/>
          </a:xfrm>
          <a:prstGeom prst="rect">
            <a:avLst/>
          </a:prstGeom>
          <a:solidFill>
            <a:srgbClr val="b5ed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38098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152280" y="2971800"/>
            <a:ext cx="655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No for cold, yes if it is hot/s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5"/>
          <p:cNvSpPr/>
          <p:nvPr/>
        </p:nvSpPr>
        <p:spPr>
          <a:xfrm>
            <a:off x="3886200" y="3962520"/>
            <a:ext cx="235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6"/>
          <p:cNvSpPr/>
          <p:nvPr/>
        </p:nvSpPr>
        <p:spPr>
          <a:xfrm>
            <a:off x="152280" y="4371840"/>
            <a:ext cx="5029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se re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steam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7"/>
          <p:cNvSpPr/>
          <p:nvPr/>
        </p:nvSpPr>
        <p:spPr>
          <a:xfrm>
            <a:off x="3909960" y="3459240"/>
            <a:ext cx="2776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8"/>
          <p:cNvSpPr/>
          <p:nvPr/>
        </p:nvSpPr>
        <p:spPr>
          <a:xfrm>
            <a:off x="5029200" y="4800600"/>
            <a:ext cx="289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9"/>
          <p:cNvSpPr/>
          <p:nvPr/>
        </p:nvSpPr>
        <p:spPr>
          <a:xfrm>
            <a:off x="7848720" y="44280"/>
            <a:ext cx="152280" cy="1695600"/>
          </a:xfrm>
          <a:custGeom>
            <a:avLst/>
            <a:gdLst>
              <a:gd name="textAreaLeft" fmla="*/ 97200 w 152280"/>
              <a:gd name="textAreaRight" fmla="*/ 152640 w 152280"/>
              <a:gd name="textAreaTop" fmla="*/ 43920 h 1695600"/>
              <a:gd name="textAreaBottom" fmla="*/ 1651680 h 169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0"/>
          <p:cNvSpPr/>
          <p:nvPr/>
        </p:nvSpPr>
        <p:spPr>
          <a:xfrm>
            <a:off x="7950240" y="50760"/>
            <a:ext cx="152280" cy="2489400"/>
          </a:xfrm>
          <a:custGeom>
            <a:avLst/>
            <a:gdLst>
              <a:gd name="textAreaLeft" fmla="*/ 97200 w 152280"/>
              <a:gd name="textAreaRight" fmla="*/ 152640 w 152280"/>
              <a:gd name="textAreaTop" fmla="*/ 64800 h 2489400"/>
              <a:gd name="textAreaBottom" fmla="*/ 2424600 h 248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5888"/>
                </a:lnTo>
                <a:cubicBezTo>
                  <a:pt x="10800" y="16788"/>
                  <a:pt x="5400" y="17688"/>
                  <a:pt x="0" y="17688"/>
                </a:cubicBezTo>
                <a:cubicBezTo>
                  <a:pt x="5400" y="17688"/>
                  <a:pt x="10800" y="18588"/>
                  <a:pt x="10800" y="194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1"/>
          <p:cNvSpPr/>
          <p:nvPr/>
        </p:nvSpPr>
        <p:spPr>
          <a:xfrm>
            <a:off x="8051760" y="44280"/>
            <a:ext cx="152280" cy="3384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2"/>
          <p:cNvSpPr/>
          <p:nvPr/>
        </p:nvSpPr>
        <p:spPr>
          <a:xfrm>
            <a:off x="8153280" y="44280"/>
            <a:ext cx="152640" cy="45594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0 h 4559400"/>
              <a:gd name="textAreaBottom" fmla="*/ 4440600 h 4559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3"/>
          <p:cNvSpPr/>
          <p:nvPr/>
        </p:nvSpPr>
        <p:spPr>
          <a:xfrm>
            <a:off x="4038480" y="57452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4038480" y="6202440"/>
            <a:ext cx="2895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  Na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152280" y="3962520"/>
            <a:ext cx="50292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81120"/>
                <a:tab algn="l" pos="1496880"/>
                <a:tab algn="l" pos="2063880"/>
                <a:tab algn="l" pos="3038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tals will have a specific place in the activity series.  For simplicity, only the most common metals are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als near the top of the activity series are more reactive because their valence electrons are more easily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ests and exams the activity series may appear as K, Na, … Ag, Au;  you must remember that K is reactive, Au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alence of a metal is not indicated in the question, use its most common valence (in bold on your periodic table) to determine the correct chemical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Activity Series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oub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Replacement Re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a metal replaces a metal in a compound and a nonmetal replaces a nonmetal in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+ compoun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duct +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 + C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 +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DBLREP"/>
          <p:cNvPicPr/>
          <p:nvPr/>
        </p:nvPicPr>
        <p:blipFill>
          <a:blip r:embed="rId1"/>
          <a:stretch/>
        </p:blipFill>
        <p:spPr>
          <a:xfrm>
            <a:off x="4572000" y="4495680"/>
            <a:ext cx="441972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 it lik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i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 in algebra, first and last ions go together + inside ions go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a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(aq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a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K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(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12193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1219320" y="4114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 flipV="1">
            <a:off x="38098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1752480" y="2806560"/>
            <a:ext cx="1524240" cy="69876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056" y="296"/>
                </a:moveTo>
                <a:cubicBezTo>
                  <a:pt x="904" y="148"/>
                  <a:pt x="752" y="0"/>
                  <a:pt x="576" y="8"/>
                </a:cubicBezTo>
                <a:cubicBezTo>
                  <a:pt x="400" y="16"/>
                  <a:pt x="200" y="180"/>
                  <a:pt x="0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609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609480" y="5867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3526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 flipV="1">
            <a:off x="1371600" y="4952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05740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105520" y="5029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Using Everyday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914400" y="15238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Every minute of the day chemical reactions are taking place both in and around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hat makes something a chemical reaction?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352680" y="5029200"/>
            <a:ext cx="3962520" cy="459720"/>
            <a:chOff x="3352680" y="5029200"/>
            <a:chExt cx="3962520" cy="459720"/>
          </a:xfrm>
        </p:grpSpPr>
        <p:sp>
          <p:nvSpPr>
            <p:cNvPr id="45" name="Line 5"/>
            <p:cNvSpPr/>
            <p:nvPr/>
          </p:nvSpPr>
          <p:spPr>
            <a:xfrm>
              <a:off x="3352680" y="5257800"/>
              <a:ext cx="1295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4800600" y="5029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7"/>
          <p:cNvGrpSpPr/>
          <p:nvPr/>
        </p:nvGrpSpPr>
        <p:grpSpPr>
          <a:xfrm>
            <a:off x="914400" y="5859360"/>
            <a:ext cx="7315200" cy="459720"/>
            <a:chOff x="914400" y="5859360"/>
            <a:chExt cx="7315200" cy="459720"/>
          </a:xfrm>
        </p:grpSpPr>
        <p:sp>
          <p:nvSpPr>
            <p:cNvPr id="48" name="Text Box 8"/>
            <p:cNvSpPr/>
            <p:nvPr/>
          </p:nvSpPr>
          <p:spPr>
            <a:xfrm>
              <a:off x="914400" y="585936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         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means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yields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 or 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eacts to produce.</a:t>
              </a:r>
              <a:r>
                <a:rPr b="0" lang="ja-JP" sz="2400" spc="-1" strike="noStrike">
                  <a:solidFill>
                    <a:srgbClr val="0000ff"/>
                  </a:solidFill>
                  <a:latin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1371600" y="6019920"/>
              <a:ext cx="1219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1492560" y="503712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ac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939600" y="3429000"/>
            <a:ext cx="67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chemical reaction involves one or more subst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reactants, changing into one or more subst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B925-065A-4924-A871-81BEA3137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914400" y="44928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hemical reactions can be described many ways. One is by using a wor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word equation is an equation where reactants and products are represented by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ethane + 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4343400" y="2819520"/>
            <a:ext cx="4572000" cy="459720"/>
            <a:chOff x="4343400" y="2819520"/>
            <a:chExt cx="4572000" cy="459720"/>
          </a:xfrm>
        </p:grpSpPr>
        <p:sp>
          <p:nvSpPr>
            <p:cNvPr id="55" name="Text Box 4"/>
            <p:cNvSpPr/>
            <p:nvPr/>
          </p:nvSpPr>
          <p:spPr>
            <a:xfrm>
              <a:off x="5562720" y="2819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arbon dioxide +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4343400" y="3124080"/>
              <a:ext cx="10666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914400" y="365760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Word equations, while useful, are cumbersome. To better describe a reaction, writing the formula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chemical equation uses formulas of reactants (on the left) separated by an arrow from products (on the righ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914400" y="297000"/>
            <a:ext cx="7315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Fe  +  O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3276720" y="838080"/>
            <a:ext cx="3733560" cy="510120"/>
            <a:chOff x="3276720" y="838080"/>
            <a:chExt cx="3733560" cy="510120"/>
          </a:xfrm>
        </p:grpSpPr>
        <p:sp>
          <p:nvSpPr>
            <p:cNvPr id="60" name="Line 4"/>
            <p:cNvSpPr/>
            <p:nvPr/>
          </p:nvSpPr>
          <p:spPr>
            <a:xfrm>
              <a:off x="3276720" y="1066680"/>
              <a:ext cx="8380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5"/>
            <p:cNvSpPr/>
            <p:nvPr/>
          </p:nvSpPr>
          <p:spPr>
            <a:xfrm>
              <a:off x="4114800" y="83808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Fe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6"/>
          <p:cNvSpPr/>
          <p:nvPr/>
        </p:nvSpPr>
        <p:spPr>
          <a:xfrm>
            <a:off x="1828800" y="1447920"/>
            <a:ext cx="3657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(Skeleton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- does not indicat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the relative amount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of reactants and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39625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Most often symbols are used to describe the state (i.e., gas, solid, etc.) of each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types of chemical reactions we will talk abou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isplacem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displacemen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be able to identify the type of reaction and predict the produc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to Writing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teps for doing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ype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product(s) using the type of reaction as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forget about the diatomic elements! (BrINClHOF) For example, Oxygen i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 an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.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mpound, it c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be a diatomic element because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ot an element anymore,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 compou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Synthesi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sis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 when two substances (general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bine and form a compound.  (Sometimes these are called combination or addition reaction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 + reactan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: A + 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SYNTHES"/>
          <p:cNvPicPr/>
          <p:nvPr/>
        </p:nvPicPr>
        <p:blipFill>
          <a:blip r:embed="rId1"/>
          <a:stretch/>
        </p:blipFill>
        <p:spPr>
          <a:xfrm>
            <a:off x="2971800" y="4952880"/>
            <a:ext cx="426708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Decomposi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ccur when a compound breaks up into the elements or in a few to simple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Reactant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duct + Prod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: A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Hg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Hg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ecompos"/>
          <p:cNvPicPr/>
          <p:nvPr/>
        </p:nvPicPr>
        <p:blipFill>
          <a:blip r:embed="rId1"/>
          <a:stretch/>
        </p:blipFill>
        <p:spPr>
          <a:xfrm>
            <a:off x="2057400" y="5181480"/>
            <a:ext cx="533412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ingle Displacem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Replacement Reactio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when one element replaces another in a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tal can replace a metal (+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nonmetal can replace a nonmetal (-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 + compound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duct + produ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 + B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if A is a met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 + C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if A is a nonmet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member the cation always goes fir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n H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 splits into ions, it splits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and OH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(not H+ and O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REPLACE"/>
          <p:cNvPicPr/>
          <p:nvPr/>
        </p:nvPicPr>
        <p:blipFill>
          <a:blip r:embed="rId1"/>
          <a:stretch/>
        </p:blipFill>
        <p:spPr>
          <a:xfrm>
            <a:off x="6095880" y="4446720"/>
            <a:ext cx="30481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3:57:02Z</dcterms:created>
  <dc:creator>Administrator</dc:creator>
  <dc:description/>
  <dc:language>en-US</dc:language>
  <cp:lastModifiedBy>Katarina Markovic</cp:lastModifiedBy>
  <dcterms:modified xsi:type="dcterms:W3CDTF">2012-02-24T10:05:39Z</dcterms:modified>
  <cp:revision>9</cp:revision>
  <dc:subject/>
  <dc:title>Chemical Reactions</dc:title>
</cp:coreProperties>
</file>